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8E5-9DE7-4276-AE2B-DE31A89F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59A-6DBF-46A3-8F01-DEC2776D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A96-1908-448A-917A-94504588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F31-C75E-43F8-91BF-BABD3CF8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7B56-DF1F-41DC-9724-5F7EC937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C781-3486-4B54-9E13-F77E71FF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9DA5-EE84-466E-8E65-7A56AA80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4024-8AB2-4171-B991-1F16D8E6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E1D9-0A76-4BD0-8EE7-EC548470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8A83-B1A8-4635-8724-823E23AA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0813-5670-472E-A245-FACBA9F3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6D5-E332-4196-BF88-9DCE18AC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0EEC-524D-4E2E-BCE3-F80994E6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6DDB-6CBD-495C-8BE7-4F49D2AA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09FE-8C51-43BD-AA64-DFA838CC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E202-FB50-4A2A-86DF-FA51D11A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FCFA-5342-4648-916D-6DD2857B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8A8-1CF5-4C7C-A9DF-879A2CF9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2D6-F7EF-4BAF-88D2-C8A45499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0B6-843B-4EFE-B8EA-2085E907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1D1-C5A1-4881-8F63-5BDA5E3A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83E-4646-4017-A9A2-9ECE6EAF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F60-9DC6-402C-A1AE-D99108F9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C46-8246-4B00-906B-DEA18A47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7EA3-9837-4D0D-87AB-19105809CFF8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7FC1-6F27-43AA-8D03-ED8D8ED23E3D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INTRODUCTION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Characteristics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of Korean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Name of the language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Kore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International name following the country name  using this language; they are Republic of Korea (south) and People’s Republic of Korea (north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Hangug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After the name, Hangug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 which ROK people calls their own country. ‘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’ means language.  Often called simply Gug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Joseonma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Following the name Joseo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which PRK people calls theit own country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oryeo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The Korean used among the Korean people, Goryeoi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in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old USSR regio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People who speaks Korea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ca. 78 mill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ROK, PRK (the native languag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Yanbian Korean Autonomous Prefecture in People's Republic of China (official language with Chines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 immigrant societies in Central Asia, Japan, USA etc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732520" cy="383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208560" y="3789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3"/>
          <p:cNvSpPr/>
          <p:nvPr/>
        </p:nvSpPr>
        <p:spPr>
          <a:xfrm>
            <a:off x="7020000" y="1628640"/>
            <a:ext cx="504720" cy="50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직선 연결선 5"/>
          <p:cNvSpPr/>
          <p:nvPr/>
        </p:nvSpPr>
        <p:spPr>
          <a:xfrm flipH="1">
            <a:off x="6208560" y="2133720"/>
            <a:ext cx="8114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직선 연결선 7"/>
          <p:cNvSpPr/>
          <p:nvPr/>
        </p:nvSpPr>
        <p:spPr>
          <a:xfrm>
            <a:off x="7524720" y="2133720"/>
            <a:ext cx="15318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3640" y="464328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Distribution of Korean-speaking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92720" y="602136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Kor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dia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직사각형 10"/>
          <p:cNvSpPr/>
          <p:nvPr/>
        </p:nvSpPr>
        <p:spPr>
          <a:xfrm>
            <a:off x="574560" y="6307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rom http://en.wikipedia.org/wiki/Korean_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Classificat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solated? (Song, 2005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taic? (Ramstedt, 1928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Writing</a:t>
            </a:r>
            <a:r>
              <a:rPr b="0" lang="ko-KR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angul – a phonogram (&lt;--&gt; ideogram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ound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lophone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숨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낫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rphophonemic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을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Linking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맞이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마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rammar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gglutinative  language – most words are formed by joining morphemes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다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간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갔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갈까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?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tructure of S + O or C + V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나는 당신을 좋아합니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peech levels &amp; honorific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존댓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inferior) &lt;-&gt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반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superior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먹다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라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으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드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REPUBLIC OF KOREA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대한민국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100,210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38,691 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(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bout 1/100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Populatio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50 million (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about 1/6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DP (nominal)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$1.163 trillion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1/15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apital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eoul (9.8 million inhabitants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thnic group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Korean (&gt;99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Religion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Buddhism (23%), Protestant (18%), Catholic (11%), Others (1%), No religion (47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ography &amp; Climat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Peninsula surrounded by Yellow, East, and South (Pacific) Sea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untainous (&gt;70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umid continental to humid subtropical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Distinct four seasons with stormy summer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12720" y="479520"/>
            <a:ext cx="280980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직사각형 3"/>
          <p:cNvSpPr/>
          <p:nvPr/>
        </p:nvSpPr>
        <p:spPr>
          <a:xfrm>
            <a:off x="263520" y="5877000"/>
            <a:ext cx="35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newworldencyclopedia.org/entry/Korean_Penins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635280" y="479520"/>
            <a:ext cx="3969000" cy="2903400"/>
          </a:xfrm>
          <a:prstGeom prst="rect">
            <a:avLst/>
          </a:prstGeom>
          <a:ln w="0">
            <a:noFill/>
          </a:ln>
        </p:spPr>
      </p:pic>
      <p:sp>
        <p:nvSpPr>
          <p:cNvPr id="99" name="직사각형 4"/>
          <p:cNvSpPr/>
          <p:nvPr/>
        </p:nvSpPr>
        <p:spPr>
          <a:xfrm>
            <a:off x="7746840" y="54936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kgreenpeo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819600" y="3500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5"/>
          <p:cNvSpPr/>
          <p:nvPr/>
        </p:nvSpPr>
        <p:spPr>
          <a:xfrm>
            <a:off x="2916360" y="6378480"/>
            <a:ext cx="51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blog.joinsmsn.com/media/folderListSlide.asp?uid=drjhoon&amp;folder=42&amp;list_id=106447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7032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694400" y="476280"/>
            <a:ext cx="42796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02120" y="6039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eoul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282600" y="3086280"/>
            <a:ext cx="4238640" cy="280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4694400" y="3433680"/>
            <a:ext cx="4324320" cy="22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Industri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Information Technology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Hyundai, SK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LG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utomobile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Hyundai, KIA, GM Daewoo, Reno Samsung, Ssangyong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hipbuilding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yundai, Hanjin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tee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POSKO, Hyundai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hemical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K, Yukong, KCC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Other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UNESCO World heritage site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ome of Taekwond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ruce with North Korea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Baseball &amp; soccer are the nationwide popular sport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Foods &amp; drinks of her ow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8-09T01:22:41Z</dcterms:modified>
  <cp:revision>31</cp:revision>
  <dc:subject/>
  <dc:title>KOREAN LANGUAGE</dc:title>
</cp:coreProperties>
</file>